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13.jpeg" ContentType="image/jpeg"/>
  <Override PartName="/ppt/media/image31.png" ContentType="image/pn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7CF1-B66E-49E2-8E1D-A49B11998DA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2B12-BBB8-428E-9BA9-3230EBAEA6D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A16D-4B09-4315-B6F2-A1C1DCA5E4C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7D13-9B2B-4D4F-93A6-4E5763DC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DA4F-E0A6-44F9-AAF8-A8D7B19F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42E1-3B90-4716-89F6-443B0493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DBCF-3899-450B-B1EB-2B5296C5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3E23-605A-4348-A154-458F16A8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A6B9-752D-41B7-B4A0-C5691BFA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6DDC-5F74-4C8E-A888-ED78ED02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9E2F-E4A6-474A-92B3-8BC79E49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5DD-1E03-4641-B5E1-0AC13E89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1D44-3E31-495B-91B1-DBB96DA8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CA91-D1A7-41C1-B9C1-89858CF7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2601-907F-4595-AFCB-B1A8240B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3F63-4ADC-41FF-A389-BA7E5E4D100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ftc.cii.fc.ul.pt/PRISMA/capitulos/capitulo3/modulo6/topico1.php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cftc.cii.fc.ul.pt/PRISMA/capitulos/capitulo4/modulo4/" TargetMode="External"/><Relationship Id="rId2" Type="http://schemas.openxmlformats.org/officeDocument/2006/relationships/hyperlink" Target="http://cftc.cii.fc.ul.pt/PRISMA/capitulos/capitulo2/modulo4/" TargetMode="External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cftc.cii.fc.ul.pt/PRISMA/glossario.php#hidrofilica" TargetMode="External"/><Relationship Id="rId2" Type="http://schemas.openxmlformats.org/officeDocument/2006/relationships/hyperlink" Target="http://cftc.cii.fc.ul.pt/PRISMA/glossario.php#hidrofobica" TargetMode="External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Título 1"/>
          <p:cNvGrpSpPr/>
          <p:nvPr/>
        </p:nvGrpSpPr>
        <p:grpSpPr>
          <a:xfrm>
            <a:off x="407880" y="1871640"/>
            <a:ext cx="8334360" cy="2030400"/>
            <a:chOff x="407880" y="1871640"/>
            <a:chExt cx="8334360" cy="2030400"/>
          </a:xfrm>
        </p:grpSpPr>
        <p:pic>
          <p:nvPicPr>
            <p:cNvPr id="49" name="Título 1" descr=""/>
            <p:cNvPicPr/>
            <p:nvPr/>
          </p:nvPicPr>
          <p:blipFill>
            <a:blip r:embed="rId1"/>
            <a:stretch/>
          </p:blipFill>
          <p:spPr>
            <a:xfrm>
              <a:off x="407880" y="1871640"/>
              <a:ext cx="833436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85800" y="213048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0000"/>
                  </a:solidFill>
                  <a:latin typeface="Verdana"/>
                  <a:ea typeface="Verdana"/>
                </a:rPr>
                <a:t>Dispersõ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Tipos de Colo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specto de solução = S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specto gelatinoso = G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8229600" cy="40291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p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pers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me Com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emp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8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ól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ól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dros e pedras preciosa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q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ól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leias, gelatinas e queijo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o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ól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pu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dra polmes, carv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1600200"/>
          <a:ext cx="8229600" cy="3932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p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pers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me Com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emp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8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ól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íq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 - Sol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einas, detergentes com águ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q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íq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uls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onese, manteig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o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q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puma liqu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puma de barbear, clara em neve, 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1600200"/>
          <a:ext cx="8229600" cy="2193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3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p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pers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me Com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emp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ól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erossol sól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eira, fumaç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q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eross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íquid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blin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Aerossóis líquidos e sólido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0920" y="1557360"/>
            <a:ext cx="433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Os aerossóis líquidos (exemplos: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neblina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,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nuvens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 e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sprays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) são bastante comuns, assim como os aerossóis sólidos (exemplos: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poeira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 e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fumaça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) apesar de por vezes só nos apercebemos da presença deles devido ao </a:t>
            </a:r>
            <a:r>
              <a:rPr b="0" lang="pt-BR" sz="24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efeito de Tyndall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" descr="Efeito de Tyndall no interior da catedral de Saint Germain (Paris)."/>
          <p:cNvPicPr/>
          <p:nvPr/>
        </p:nvPicPr>
        <p:blipFill>
          <a:blip r:embed="rId2"/>
          <a:stretch/>
        </p:blipFill>
        <p:spPr>
          <a:xfrm>
            <a:off x="4859280" y="1844640"/>
            <a:ext cx="3975120" cy="3097080"/>
          </a:xfrm>
          <a:prstGeom prst="rect">
            <a:avLst/>
          </a:prstGeom>
          <a:ln w="0">
            <a:noFill/>
          </a:ln>
        </p:spPr>
      </p:pic>
      <p:sp>
        <p:nvSpPr>
          <p:cNvPr id="87" name="Retângulo 5"/>
          <p:cNvSpPr/>
          <p:nvPr/>
        </p:nvSpPr>
        <p:spPr>
          <a:xfrm>
            <a:off x="5076720" y="5157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atedral de Saint Germain (Pari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23640" y="189000"/>
            <a:ext cx="8605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0000"/>
                </a:solidFill>
                <a:latin typeface="Calibri"/>
              </a:rPr>
              <a:t>Menos conhecidos, são os </a:t>
            </a:r>
            <a:r>
              <a:rPr b="1" lang="pt-BR" sz="2700" spc="-1" strike="noStrike">
                <a:solidFill>
                  <a:srgbClr val="17375e"/>
                </a:solidFill>
                <a:latin typeface="Calibri"/>
              </a:rPr>
              <a:t>aerogéis</a:t>
            </a:r>
            <a:r>
              <a:rPr b="1" lang="pt-BR" sz="2700" spc="-1" strike="noStrike">
                <a:solidFill>
                  <a:srgbClr val="ff0000"/>
                </a:solidFill>
                <a:latin typeface="Calibri"/>
              </a:rPr>
              <a:t>, onde a fase sólida dispersa no ar é também contínua. Os aerogéis são literalmente feitos de quase nada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" descr="Aerogel"/>
          <p:cNvPicPr/>
          <p:nvPr/>
        </p:nvPicPr>
        <p:blipFill>
          <a:blip r:embed="rId1"/>
          <a:stretch/>
        </p:blipFill>
        <p:spPr>
          <a:xfrm>
            <a:off x="1022400" y="2205000"/>
            <a:ext cx="2901960" cy="3529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Microfotografia de um aerogel."/>
          <p:cNvPicPr/>
          <p:nvPr/>
        </p:nvPicPr>
        <p:blipFill>
          <a:blip r:embed="rId2"/>
          <a:stretch/>
        </p:blipFill>
        <p:spPr>
          <a:xfrm>
            <a:off x="4067280" y="2205000"/>
            <a:ext cx="4711680" cy="3564000"/>
          </a:xfrm>
          <a:prstGeom prst="rect">
            <a:avLst/>
          </a:prstGeom>
          <a:ln w="0">
            <a:noFill/>
          </a:ln>
        </p:spPr>
      </p:pic>
      <p:grpSp>
        <p:nvGrpSpPr>
          <p:cNvPr id="91" name="Retângulo 5"/>
          <p:cNvGrpSpPr/>
          <p:nvPr/>
        </p:nvGrpSpPr>
        <p:grpSpPr>
          <a:xfrm>
            <a:off x="927000" y="5962680"/>
            <a:ext cx="11520720" cy="639720"/>
            <a:chOff x="927000" y="5962680"/>
            <a:chExt cx="11520720" cy="639720"/>
          </a:xfrm>
        </p:grpSpPr>
        <p:pic>
          <p:nvPicPr>
            <p:cNvPr id="92" name="Retângulo 5" descr=""/>
            <p:cNvPicPr/>
            <p:nvPr/>
          </p:nvPicPr>
          <p:blipFill>
            <a:blip r:embed="rId3"/>
            <a:stretch/>
          </p:blipFill>
          <p:spPr>
            <a:xfrm>
              <a:off x="927000" y="5962680"/>
              <a:ext cx="11520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549800" y="6021360"/>
              <a:ext cx="590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Aerogel composto de 96% de ar e 4% de síl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Smog Fotoquímic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724000" y="1844640"/>
            <a:ext cx="341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Um dos grandes problemas que atingem as grandes cidad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2"/>
          <p:cNvSpPr/>
          <p:nvPr/>
        </p:nvSpPr>
        <p:spPr>
          <a:xfrm>
            <a:off x="69840" y="-441360"/>
            <a:ext cx="15238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69840" y="-441360"/>
            <a:ext cx="15238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69840" y="-441360"/>
            <a:ext cx="15238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Imagem 6" descr="untitled.bmp"/>
          <p:cNvPicPr/>
          <p:nvPr/>
        </p:nvPicPr>
        <p:blipFill>
          <a:blip r:embed="rId1"/>
          <a:stretch/>
        </p:blipFill>
        <p:spPr>
          <a:xfrm>
            <a:off x="324000" y="1413000"/>
            <a:ext cx="5256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O que o Smog Fotoquimic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Espaço Reservado para Conteúdo 3" descr="10-5Fot.jpg"/>
          <p:cNvPicPr/>
          <p:nvPr/>
        </p:nvPicPr>
        <p:blipFill>
          <a:blip r:embed="rId1"/>
          <a:stretch/>
        </p:blipFill>
        <p:spPr>
          <a:xfrm>
            <a:off x="324000" y="1219320"/>
            <a:ext cx="8496000" cy="5305320"/>
          </a:xfrm>
          <a:prstGeom prst="rect">
            <a:avLst/>
          </a:prstGeom>
          <a:ln w="0">
            <a:noFill/>
          </a:ln>
        </p:spPr>
      </p:pic>
      <p:sp>
        <p:nvSpPr>
          <p:cNvPr id="102" name="Botão de ação: Filme 4"/>
          <p:cNvSpPr/>
          <p:nvPr/>
        </p:nvSpPr>
        <p:spPr>
          <a:xfrm>
            <a:off x="745164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7301"/>
                </a:moveTo>
                <a:lnTo>
                  <a:pt x="13221" y="7301"/>
                </a:lnTo>
                <a:lnTo>
                  <a:pt x="13604" y="7667"/>
                </a:lnTo>
                <a:lnTo>
                  <a:pt x="22813" y="7667"/>
                </a:lnTo>
                <a:lnTo>
                  <a:pt x="23370" y="8224"/>
                </a:lnTo>
                <a:lnTo>
                  <a:pt x="23370" y="8772"/>
                </a:lnTo>
                <a:lnTo>
                  <a:pt x="25215" y="8772"/>
                </a:lnTo>
                <a:lnTo>
                  <a:pt x="25581" y="8224"/>
                </a:lnTo>
                <a:lnTo>
                  <a:pt x="26320" y="8224"/>
                </a:lnTo>
                <a:lnTo>
                  <a:pt x="26320" y="13376"/>
                </a:lnTo>
                <a:lnTo>
                  <a:pt x="25581" y="13376"/>
                </a:lnTo>
                <a:lnTo>
                  <a:pt x="25215" y="12828"/>
                </a:lnTo>
                <a:lnTo>
                  <a:pt x="23370" y="12828"/>
                </a:lnTo>
                <a:lnTo>
                  <a:pt x="23370" y="14107"/>
                </a:lnTo>
                <a:lnTo>
                  <a:pt x="13787" y="14107"/>
                </a:lnTo>
                <a:lnTo>
                  <a:pt x="13787" y="9877"/>
                </a:lnTo>
                <a:lnTo>
                  <a:pt x="13604" y="9877"/>
                </a:lnTo>
                <a:lnTo>
                  <a:pt x="13221" y="10243"/>
                </a:lnTo>
                <a:lnTo>
                  <a:pt x="12308" y="1024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7375e"/>
                </a:solidFill>
                <a:latin typeface="Verdana"/>
                <a:ea typeface="Verdana"/>
              </a:rPr>
              <a:t>As espumas líquidas 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(exemplos: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chantilly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,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espuma da cerveja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 e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espuma de barbear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) e espumas sólidas (exemplos: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pipocas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,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farofas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 e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espuma de poliuretano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 também conhecida por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esponja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) são exemplos banais de colói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" descr="Chantilly"/>
          <p:cNvPicPr/>
          <p:nvPr/>
        </p:nvPicPr>
        <p:blipFill>
          <a:blip r:embed="rId1"/>
          <a:stretch/>
        </p:blipFill>
        <p:spPr>
          <a:xfrm>
            <a:off x="395280" y="2421000"/>
            <a:ext cx="2548080" cy="403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Estrutura microscópica do chantilly."/>
          <p:cNvPicPr/>
          <p:nvPr/>
        </p:nvPicPr>
        <p:blipFill>
          <a:blip r:embed="rId2"/>
          <a:stretch/>
        </p:blipFill>
        <p:spPr>
          <a:xfrm>
            <a:off x="3348000" y="2349360"/>
            <a:ext cx="5276880" cy="3383280"/>
          </a:xfrm>
          <a:prstGeom prst="rect">
            <a:avLst/>
          </a:prstGeom>
          <a:ln w="0">
            <a:noFill/>
          </a:ln>
        </p:spPr>
      </p:pic>
      <p:grpSp>
        <p:nvGrpSpPr>
          <p:cNvPr id="106" name="Retângulo 5"/>
          <p:cNvGrpSpPr/>
          <p:nvPr/>
        </p:nvGrpSpPr>
        <p:grpSpPr>
          <a:xfrm>
            <a:off x="3736800" y="6035760"/>
            <a:ext cx="7332840" cy="639720"/>
            <a:chOff x="3736800" y="6035760"/>
            <a:chExt cx="7332840" cy="639720"/>
          </a:xfrm>
        </p:grpSpPr>
        <p:pic>
          <p:nvPicPr>
            <p:cNvPr id="107" name="Retângulo 5" descr=""/>
            <p:cNvPicPr/>
            <p:nvPr/>
          </p:nvPicPr>
          <p:blipFill>
            <a:blip r:embed="rId3"/>
            <a:stretch/>
          </p:blipFill>
          <p:spPr>
            <a:xfrm>
              <a:off x="3736800" y="6035760"/>
              <a:ext cx="73328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860280" y="6093000"/>
              <a:ext cx="438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Calibri"/>
                </a:rPr>
                <a:t>Chantilly e a sua estrutura microscóp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Emulsões (líquidas) e emulsões sólidas </a:t>
            </a:r>
            <a:br>
              <a:rPr sz="2400"/>
            </a:b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O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leite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 e a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maionese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 (meio contínuo: água, fase dispersa: gordura) assim como a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manteiga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 e a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margarina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 (meio contínuo: óleo, fase dispersa: água) são exemplos de </a:t>
            </a:r>
            <a:r>
              <a:rPr b="1" lang="pt-BR" sz="2400" spc="-1" strike="noStrike">
                <a:solidFill>
                  <a:srgbClr val="17375e"/>
                </a:solidFill>
                <a:latin typeface="Verdana"/>
                <a:ea typeface="Verdana"/>
              </a:rPr>
              <a:t>emulsões (líquidas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" descr="leite"/>
          <p:cNvPicPr/>
          <p:nvPr/>
        </p:nvPicPr>
        <p:blipFill>
          <a:blip r:embed="rId1"/>
          <a:stretch/>
        </p:blipFill>
        <p:spPr>
          <a:xfrm>
            <a:off x="250920" y="2276640"/>
            <a:ext cx="2481120" cy="345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Estrutura microscópica do leite."/>
          <p:cNvPicPr/>
          <p:nvPr/>
        </p:nvPicPr>
        <p:blipFill>
          <a:blip r:embed="rId2"/>
          <a:stretch/>
        </p:blipFill>
        <p:spPr>
          <a:xfrm>
            <a:off x="2987640" y="2276640"/>
            <a:ext cx="5808600" cy="3490920"/>
          </a:xfrm>
          <a:prstGeom prst="rect">
            <a:avLst/>
          </a:prstGeom>
          <a:ln w="0">
            <a:noFill/>
          </a:ln>
        </p:spPr>
      </p:pic>
      <p:grpSp>
        <p:nvGrpSpPr>
          <p:cNvPr id="112" name="Retângulo 5"/>
          <p:cNvGrpSpPr/>
          <p:nvPr/>
        </p:nvGrpSpPr>
        <p:grpSpPr>
          <a:xfrm>
            <a:off x="60480" y="5846760"/>
            <a:ext cx="9010440" cy="1724040"/>
            <a:chOff x="60480" y="5846760"/>
            <a:chExt cx="9010440" cy="1724040"/>
          </a:xfrm>
        </p:grpSpPr>
        <p:pic>
          <p:nvPicPr>
            <p:cNvPr id="113" name="Retângulo 5" descr=""/>
            <p:cNvPicPr/>
            <p:nvPr/>
          </p:nvPicPr>
          <p:blipFill>
            <a:blip r:embed="rId3"/>
            <a:stretch/>
          </p:blipFill>
          <p:spPr>
            <a:xfrm>
              <a:off x="60480" y="5846760"/>
              <a:ext cx="9010440" cy="17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79280" y="5904000"/>
              <a:ext cx="878544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Estrutura</a:t>
              </a:r>
              <a:r>
                <a:rPr b="1" lang="pt-BR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 microscópica do leite, onde são visíveis os glóbulos de gordura (cinzento) e micelas de caseína (preto), as quais são responsáveis pela estabilidade do leit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Verdana"/>
                <a:ea typeface="Verdana"/>
              </a:rPr>
              <a:t>As misturas de substâncias não nascem todas iguais. Por exemplo, quando dissolvemos açúcar no chá, o açúcar já não se separa espontaneamente do chá, nem mesmo usando filtros extremamente finos ou centrifugadoras extremamente potentes. </a:t>
            </a:r>
            <a:r>
              <a:rPr b="1" lang="pt-BR" sz="3600" spc="-1" strike="noStrike">
                <a:solidFill>
                  <a:srgbClr val="002060"/>
                </a:solidFill>
                <a:latin typeface="Verdana"/>
                <a:ea typeface="Verdana"/>
              </a:rPr>
              <a:t>As estas misturas chamamos soluções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Verdana"/>
                <a:ea typeface="Verdana"/>
              </a:rPr>
              <a:t>O </a:t>
            </a:r>
            <a:r>
              <a:rPr b="1" i="1" lang="pt-BR" sz="2800" spc="-1" strike="noStrike">
                <a:solidFill>
                  <a:srgbClr val="ff0000"/>
                </a:solidFill>
                <a:latin typeface="Verdana"/>
                <a:ea typeface="Verdana"/>
              </a:rPr>
              <a:t>queijo</a:t>
            </a:r>
            <a:r>
              <a:rPr b="1" lang="pt-BR" sz="2800" spc="-1" strike="noStrike">
                <a:solidFill>
                  <a:srgbClr val="ff0000"/>
                </a:solidFill>
                <a:latin typeface="Verdana"/>
                <a:ea typeface="Verdana"/>
              </a:rPr>
              <a:t> (meio contínuo: proteínas, fase dispersa: gordura) assim como o </a:t>
            </a:r>
            <a:r>
              <a:rPr b="1" i="1" lang="pt-BR" sz="2800" spc="-1" strike="noStrike">
                <a:solidFill>
                  <a:srgbClr val="ff0000"/>
                </a:solidFill>
                <a:latin typeface="Verdana"/>
                <a:ea typeface="Verdana"/>
              </a:rPr>
              <a:t>gelado</a:t>
            </a:r>
            <a:r>
              <a:rPr b="1" lang="pt-BR" sz="2800" spc="-1" strike="noStrike">
                <a:solidFill>
                  <a:srgbClr val="ff0000"/>
                </a:solidFill>
                <a:latin typeface="Verdana"/>
                <a:ea typeface="Verdana"/>
              </a:rPr>
              <a:t> (meio contínuo: água, fase dispersa: gordura) são exemplos de </a:t>
            </a:r>
            <a:r>
              <a:rPr b="1" lang="pt-BR" sz="2800" spc="-1" strike="noStrike">
                <a:solidFill>
                  <a:srgbClr val="17375e"/>
                </a:solidFill>
                <a:latin typeface="Verdana"/>
                <a:ea typeface="Verdana"/>
              </a:rPr>
              <a:t>emulsões sólidas</a:t>
            </a:r>
            <a:r>
              <a:rPr b="1" lang="pt-BR" sz="2800" spc="-1" strike="noStrike">
                <a:solidFill>
                  <a:srgbClr val="ff0000"/>
                </a:solidFill>
                <a:latin typeface="Verdana"/>
                <a:ea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1" descr="Queijo cheddar."/>
          <p:cNvPicPr/>
          <p:nvPr/>
        </p:nvPicPr>
        <p:blipFill>
          <a:blip r:embed="rId1"/>
          <a:stretch/>
        </p:blipFill>
        <p:spPr>
          <a:xfrm>
            <a:off x="179280" y="2421000"/>
            <a:ext cx="4121280" cy="309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Microfotografia do queijo cheddar."/>
          <p:cNvPicPr/>
          <p:nvPr/>
        </p:nvPicPr>
        <p:blipFill>
          <a:blip r:embed="rId2"/>
          <a:stretch/>
        </p:blipFill>
        <p:spPr>
          <a:xfrm>
            <a:off x="4427640" y="2205000"/>
            <a:ext cx="4495680" cy="3384720"/>
          </a:xfrm>
          <a:prstGeom prst="rect">
            <a:avLst/>
          </a:prstGeom>
          <a:ln w="0">
            <a:noFill/>
          </a:ln>
        </p:spPr>
      </p:pic>
      <p:grpSp>
        <p:nvGrpSpPr>
          <p:cNvPr id="118" name="Retângulo 4"/>
          <p:cNvGrpSpPr/>
          <p:nvPr/>
        </p:nvGrpSpPr>
        <p:grpSpPr>
          <a:xfrm>
            <a:off x="6480" y="5748480"/>
            <a:ext cx="9088200" cy="1695240"/>
            <a:chOff x="6480" y="5748480"/>
            <a:chExt cx="9088200" cy="1695240"/>
          </a:xfrm>
        </p:grpSpPr>
        <p:pic>
          <p:nvPicPr>
            <p:cNvPr id="119" name="Retângulo 4" descr=""/>
            <p:cNvPicPr/>
            <p:nvPr/>
          </p:nvPicPr>
          <p:blipFill>
            <a:blip r:embed="rId3"/>
            <a:stretch/>
          </p:blipFill>
          <p:spPr>
            <a:xfrm>
              <a:off x="6480" y="5748480"/>
              <a:ext cx="908820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08000" y="5805360"/>
              <a:ext cx="8785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Fatias de queijo 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cheddar</a:t>
              </a:r>
              <a:r>
                <a:rPr b="1" lang="pt-BR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 e na respectiva microfotografia da direita (escala: 1 µm) podemos ver os glóbulos de gordura (amarelo) num meio contínuo de proteínas (azul)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A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gelatina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 (meio contínuo: água, fase dispersa: proteínas) antes de arrefecer é um exemplo de um </a:t>
            </a:r>
            <a:r>
              <a:rPr b="1" lang="pt-BR" sz="2400" spc="-1" strike="noStrike">
                <a:solidFill>
                  <a:srgbClr val="17375e"/>
                </a:solidFill>
                <a:latin typeface="Verdana"/>
                <a:ea typeface="Verdana"/>
              </a:rPr>
              <a:t>sol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 (líquido). Porém quando arrefece transforma-se num </a:t>
            </a:r>
            <a:r>
              <a:rPr b="1" lang="pt-BR" sz="2400" spc="-1" strike="noStrike">
                <a:solidFill>
                  <a:srgbClr val="17375e"/>
                </a:solidFill>
                <a:latin typeface="Verdana"/>
                <a:ea typeface="Verdana"/>
              </a:rPr>
              <a:t>gel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, onde a fase dispersa passa também a ser contínua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" descr="Transição sol-gel."/>
          <p:cNvPicPr/>
          <p:nvPr/>
        </p:nvPicPr>
        <p:blipFill>
          <a:blip r:embed="rId1"/>
          <a:stretch/>
        </p:blipFill>
        <p:spPr>
          <a:xfrm>
            <a:off x="1763640" y="2349360"/>
            <a:ext cx="5688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No estado gel as </a:t>
            </a:r>
            <a:r>
              <a:rPr b="0" lang="pt-BR" sz="24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proteínas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 da gelatina formam um agregado </a:t>
            </a:r>
            <a:r>
              <a:rPr b="0" lang="pt-BR" sz="24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2"/>
              </a:rPr>
              <a:t>fractal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 auto-semelhant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" descr="gelatina"/>
          <p:cNvPicPr/>
          <p:nvPr/>
        </p:nvPicPr>
        <p:blipFill>
          <a:blip r:embed="rId3"/>
          <a:stretch/>
        </p:blipFill>
        <p:spPr>
          <a:xfrm>
            <a:off x="324000" y="1989000"/>
            <a:ext cx="3886200" cy="3427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Microfotografia de um gel de lisozina."/>
          <p:cNvPicPr/>
          <p:nvPr/>
        </p:nvPicPr>
        <p:blipFill>
          <a:blip r:embed="rId4"/>
          <a:stretch/>
        </p:blipFill>
        <p:spPr>
          <a:xfrm>
            <a:off x="4572000" y="1989000"/>
            <a:ext cx="4006800" cy="3571920"/>
          </a:xfrm>
          <a:prstGeom prst="rect">
            <a:avLst/>
          </a:prstGeom>
          <a:ln w="0">
            <a:noFill/>
          </a:ln>
        </p:spPr>
      </p:pic>
      <p:grpSp>
        <p:nvGrpSpPr>
          <p:cNvPr id="126" name="Retângulo 4"/>
          <p:cNvGrpSpPr/>
          <p:nvPr/>
        </p:nvGrpSpPr>
        <p:grpSpPr>
          <a:xfrm>
            <a:off x="353880" y="5815080"/>
            <a:ext cx="8448840" cy="1244520"/>
            <a:chOff x="353880" y="5815080"/>
            <a:chExt cx="8448840" cy="1244520"/>
          </a:xfrm>
        </p:grpSpPr>
        <p:pic>
          <p:nvPicPr>
            <p:cNvPr id="127" name="Retângulo 4" descr=""/>
            <p:cNvPicPr/>
            <p:nvPr/>
          </p:nvPicPr>
          <p:blipFill>
            <a:blip r:embed="rId5"/>
            <a:stretch/>
          </p:blipFill>
          <p:spPr>
            <a:xfrm>
              <a:off x="353880" y="5815080"/>
              <a:ext cx="84488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68360" y="5877000"/>
              <a:ext cx="8280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Na microfotografia da direita (escala: 1 µm) podemos ver um gel de lisozina (uma proteín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As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pérolas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 (meio contínuo: proteínas, fase dispersa: placas de aragonite) assim como o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aço ao carbono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 (meio contínuo: ferro, fase dispersa: carbono) são exemplos de </a:t>
            </a:r>
            <a:r>
              <a:rPr b="1" lang="pt-BR" sz="2400" spc="-1" strike="noStrike">
                <a:solidFill>
                  <a:srgbClr val="17375e"/>
                </a:solidFill>
                <a:latin typeface="Verdana"/>
                <a:ea typeface="Verdana"/>
              </a:rPr>
              <a:t>sóis sólid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4358160" y="-297360"/>
            <a:ext cx="4276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95400" tIns="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pérola"/>
          <p:cNvPicPr/>
          <p:nvPr/>
        </p:nvPicPr>
        <p:blipFill>
          <a:blip r:embed="rId1"/>
          <a:stretch/>
        </p:blipFill>
        <p:spPr>
          <a:xfrm>
            <a:off x="108000" y="1916280"/>
            <a:ext cx="3959280" cy="39607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4389840" y="-297360"/>
            <a:ext cx="3643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0" tIns="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Microfotografia de uma pérola."/>
          <p:cNvPicPr/>
          <p:nvPr/>
        </p:nvPicPr>
        <p:blipFill>
          <a:blip r:embed="rId2"/>
          <a:stretch/>
        </p:blipFill>
        <p:spPr>
          <a:xfrm>
            <a:off x="4705200" y="1989000"/>
            <a:ext cx="4151520" cy="3816360"/>
          </a:xfrm>
          <a:prstGeom prst="rect">
            <a:avLst/>
          </a:prstGeom>
          <a:ln w="0">
            <a:noFill/>
          </a:ln>
        </p:spPr>
      </p:pic>
      <p:grpSp>
        <p:nvGrpSpPr>
          <p:cNvPr id="134" name="Retângulo 6"/>
          <p:cNvGrpSpPr/>
          <p:nvPr/>
        </p:nvGrpSpPr>
        <p:grpSpPr>
          <a:xfrm>
            <a:off x="208080" y="5962680"/>
            <a:ext cx="8740800" cy="1554120"/>
            <a:chOff x="208080" y="5962680"/>
            <a:chExt cx="8740800" cy="1554120"/>
          </a:xfrm>
        </p:grpSpPr>
        <p:pic>
          <p:nvPicPr>
            <p:cNvPr id="135" name="Retângulo 6" descr=""/>
            <p:cNvPicPr/>
            <p:nvPr/>
          </p:nvPicPr>
          <p:blipFill>
            <a:blip r:embed="rId3"/>
            <a:stretch/>
          </p:blipFill>
          <p:spPr>
            <a:xfrm>
              <a:off x="208080" y="5962680"/>
              <a:ext cx="874080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324000" y="6021360"/>
              <a:ext cx="856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Estrutura de uma pérola, onde as placas de aragonite (mineral) têm cerca de 10 µm de diâmetro e 0.5 µm de espessur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Título 1"/>
          <p:cNvGrpSpPr/>
          <p:nvPr/>
        </p:nvGrpSpPr>
        <p:grpSpPr>
          <a:xfrm>
            <a:off x="401760" y="55440"/>
            <a:ext cx="8340480" cy="1785960"/>
            <a:chOff x="401760" y="55440"/>
            <a:chExt cx="8340480" cy="1785960"/>
          </a:xfrm>
        </p:grpSpPr>
        <p:pic>
          <p:nvPicPr>
            <p:cNvPr id="138" name="Título 1" descr=""/>
            <p:cNvPicPr/>
            <p:nvPr/>
          </p:nvPicPr>
          <p:blipFill>
            <a:blip r:embed="rId1"/>
            <a:stretch/>
          </p:blipFill>
          <p:spPr>
            <a:xfrm>
              <a:off x="401760" y="55440"/>
              <a:ext cx="834048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ffffff"/>
                  </a:solidFill>
                  <a:latin typeface="Calibri"/>
                </a:rPr>
                <a:t>Estabilidade dos Colóid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tângulo 2"/>
          <p:cNvSpPr/>
          <p:nvPr/>
        </p:nvSpPr>
        <p:spPr>
          <a:xfrm>
            <a:off x="395280" y="213660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7375e"/>
                </a:solidFill>
                <a:latin typeface="Verdana"/>
                <a:ea typeface="Verdana"/>
              </a:rPr>
              <a:t>A estabilidade dos colóides depende em grande medida das propriedades da fase dispersa, nomeadamente se esta é liofílica ou liofób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7375e"/>
                </a:solidFill>
                <a:latin typeface="Verdana"/>
                <a:ea typeface="Verdana"/>
              </a:rPr>
              <a:t>O termo </a:t>
            </a:r>
            <a:r>
              <a:rPr b="1" i="1" lang="pt-BR" sz="2400" spc="-1" strike="noStrike">
                <a:solidFill>
                  <a:srgbClr val="17375e"/>
                </a:solidFill>
                <a:latin typeface="Verdana"/>
                <a:ea typeface="Verdana"/>
              </a:rPr>
              <a:t>lio</a:t>
            </a:r>
            <a:r>
              <a:rPr b="1" lang="pt-BR" sz="2400" spc="-1" strike="noStrike">
                <a:solidFill>
                  <a:srgbClr val="17375e"/>
                </a:solidFill>
                <a:latin typeface="Verdana"/>
                <a:ea typeface="Verdana"/>
              </a:rPr>
              <a:t> refere-se ao meio dispersante. Os termos mais familiares </a:t>
            </a:r>
            <a:r>
              <a:rPr b="1" i="1" lang="pt-BR" sz="2400" spc="-1" strike="noStrike">
                <a:solidFill>
                  <a:srgbClr val="17375e"/>
                </a:solidFill>
                <a:latin typeface="Verdana"/>
                <a:ea typeface="Verdana"/>
              </a:rPr>
              <a:t>fóbico</a:t>
            </a:r>
            <a:r>
              <a:rPr b="1" lang="pt-BR" sz="2400" spc="-1" strike="noStrike">
                <a:solidFill>
                  <a:srgbClr val="17375e"/>
                </a:solidFill>
                <a:latin typeface="Verdana"/>
                <a:ea typeface="Verdana"/>
              </a:rPr>
              <a:t> (do grego, "ter medo") e </a:t>
            </a:r>
            <a:r>
              <a:rPr b="1" i="1" lang="pt-BR" sz="2400" spc="-1" strike="noStrike">
                <a:solidFill>
                  <a:srgbClr val="17375e"/>
                </a:solidFill>
                <a:latin typeface="Verdana"/>
                <a:ea typeface="Verdana"/>
              </a:rPr>
              <a:t>fílico</a:t>
            </a:r>
            <a:r>
              <a:rPr b="1" lang="pt-BR" sz="2400" spc="-1" strike="noStrike">
                <a:solidFill>
                  <a:srgbClr val="17375e"/>
                </a:solidFill>
                <a:latin typeface="Verdana"/>
                <a:ea typeface="Verdana"/>
              </a:rPr>
              <a:t> (do grego, "gostar") servem para indicar se as partículas dispersas têm uma afinidade fraca (liofóbica) ou forte (liofílica) com o meio dispersa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7375e"/>
                </a:solidFill>
                <a:latin typeface="Verdana"/>
                <a:ea typeface="Verdana"/>
              </a:rPr>
              <a:t>Um exemplo comum de sistema liofílico é o sabão disperso na água. O óleo suspenso na água, pelo uso de uma técnica de dispersão por ultra-sons, por exemplo, representa um colóide liofóbico típico. A rigidez inerente dos colóides não fluidos, tais como as espumas sólidas ou os sóis sólidos é, naturalmente, o fator principal que determina a sua estabilida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7375e"/>
                </a:solidFill>
                <a:latin typeface="Verdana"/>
                <a:ea typeface="Verdana"/>
              </a:rPr>
              <a:t>Exemplos comuns deste tipo de moléculas são o sabão e os detergentes, os quais têm uma </a:t>
            </a:r>
            <a:r>
              <a:rPr b="1" i="1" lang="pt-BR" sz="3200" spc="-1" strike="noStrike">
                <a:solidFill>
                  <a:srgbClr val="17375e"/>
                </a:solidFill>
                <a:latin typeface="Verdana"/>
                <a:ea typeface="Verdana"/>
              </a:rPr>
              <a:t>cabeça</a:t>
            </a:r>
            <a:r>
              <a:rPr b="1" lang="pt-BR" sz="3200" spc="-1" strike="noStrike">
                <a:solidFill>
                  <a:srgbClr val="17375e"/>
                </a:solidFill>
                <a:latin typeface="Verdana"/>
                <a:ea typeface="Verdana"/>
              </a:rPr>
              <a:t> </a:t>
            </a:r>
            <a:r>
              <a:rPr b="0" lang="pt-BR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idrofílica</a:t>
            </a:r>
            <a:r>
              <a:rPr b="1" lang="pt-BR" sz="3200" spc="-1" strike="noStrike">
                <a:solidFill>
                  <a:srgbClr val="17375e"/>
                </a:solidFill>
                <a:latin typeface="Verdana"/>
                <a:ea typeface="Verdana"/>
              </a:rPr>
              <a:t> e uma </a:t>
            </a:r>
            <a:r>
              <a:rPr b="1" i="1" lang="pt-BR" sz="3200" spc="-1" strike="noStrike">
                <a:solidFill>
                  <a:srgbClr val="17375e"/>
                </a:solidFill>
                <a:latin typeface="Verdana"/>
                <a:ea typeface="Verdana"/>
              </a:rPr>
              <a:t>cauda</a:t>
            </a:r>
            <a:r>
              <a:rPr b="1" lang="pt-BR" sz="3200" spc="-1" strike="noStrike">
                <a:solidFill>
                  <a:srgbClr val="17375e"/>
                </a:solidFill>
                <a:latin typeface="Verdana"/>
                <a:ea typeface="Verdana"/>
              </a:rPr>
              <a:t> </a:t>
            </a:r>
            <a:r>
              <a:rPr b="0" lang="pt-BR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2"/>
              </a:rPr>
              <a:t>hidrofóbica</a:t>
            </a:r>
            <a:r>
              <a:rPr b="1" lang="pt-BR" sz="3200" spc="-1" strike="noStrike">
                <a:solidFill>
                  <a:srgbClr val="17375e"/>
                </a:solidFill>
                <a:latin typeface="Verdana"/>
                <a:ea typeface="Verdana"/>
              </a:rPr>
              <a:t>. O mecanismo da estabilização baseia-se na formação de micelas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Disposição das moléculas de um surfactante numa lâmina de água em contacto com o ar."/>
          <p:cNvPicPr/>
          <p:nvPr/>
        </p:nvPicPr>
        <p:blipFill>
          <a:blip r:embed="rId3"/>
          <a:stretch/>
        </p:blipFill>
        <p:spPr>
          <a:xfrm>
            <a:off x="1547640" y="3141720"/>
            <a:ext cx="5832720" cy="341136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Título 1"/>
          <p:cNvGrpSpPr/>
          <p:nvPr/>
        </p:nvGrpSpPr>
        <p:grpSpPr>
          <a:xfrm>
            <a:off x="401760" y="-19080"/>
            <a:ext cx="8540640" cy="1951200"/>
            <a:chOff x="401760" y="-19080"/>
            <a:chExt cx="8540640" cy="1951200"/>
          </a:xfrm>
        </p:grpSpPr>
        <p:pic>
          <p:nvPicPr>
            <p:cNvPr id="145" name="Título 1" descr=""/>
            <p:cNvPicPr/>
            <p:nvPr/>
          </p:nvPicPr>
          <p:blipFill>
            <a:blip r:embed="rId1"/>
            <a:stretch/>
          </p:blipFill>
          <p:spPr>
            <a:xfrm>
              <a:off x="401760" y="-19080"/>
              <a:ext cx="854064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Calibri"/>
                </a:rPr>
                <a:t>Algumas aplicações tecnológica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139680" y="1878120"/>
            <a:ext cx="86076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3068280"/>
            <a:ext cx="51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Verdana"/>
                <a:ea typeface="Verdana"/>
              </a:rPr>
              <a:t>Por outro lado, o sumo de laranja recém espremido é também uma mistura aparentemente homogênea. Porém, se esperarmos um pouco, a polpa da laranja deposita-se no fundo do copo sob a ação da gravidade. </a:t>
            </a:r>
            <a:r>
              <a:rPr b="1" lang="pt-BR" sz="2800" spc="-1" strike="noStrike">
                <a:solidFill>
                  <a:srgbClr val="17375e"/>
                </a:solidFill>
                <a:latin typeface="Verdana"/>
                <a:ea typeface="Verdana"/>
              </a:rPr>
              <a:t>A estas misturas chamamos suspensões.</a:t>
            </a:r>
            <a:r>
              <a:rPr b="1" lang="pt-BR" sz="2800" spc="-1" strike="noStrike">
                <a:solidFill>
                  <a:srgbClr val="ff0000"/>
                </a:solidFill>
                <a:latin typeface="Verdana"/>
                <a:ea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Sumo de laranja recém-espremido."/>
          <p:cNvPicPr/>
          <p:nvPr/>
        </p:nvPicPr>
        <p:blipFill>
          <a:blip r:embed="rId1"/>
          <a:stretch/>
        </p:blipFill>
        <p:spPr>
          <a:xfrm>
            <a:off x="5435640" y="476280"/>
            <a:ext cx="3551040" cy="25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Polpa do sumo de laranja depositada no fundo devido à gravidade."/>
          <p:cNvPicPr/>
          <p:nvPr/>
        </p:nvPicPr>
        <p:blipFill>
          <a:blip r:embed="rId2"/>
          <a:stretch/>
        </p:blipFill>
        <p:spPr>
          <a:xfrm>
            <a:off x="5435640" y="3573360"/>
            <a:ext cx="356220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Verdana"/>
                <a:ea typeface="Verdana"/>
              </a:rPr>
              <a:t>Existe ainda um terceiro tipo de misturas, onde as substâncias não se separam sob a ação da gravidade, mas onde é possível separá-las usando filtros extremamente finos ou centrifugadoras extremamente potent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3141360"/>
            <a:ext cx="511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Verdana"/>
                <a:ea typeface="Verdana"/>
              </a:rPr>
              <a:t>O leite é uma dessas misturas. A este tipo de misturas chamamos colóides. A diferença está no tamanho das partículas suspensas. </a:t>
            </a:r>
            <a:r>
              <a:rPr b="1" lang="pt-BR" sz="3200" spc="-1" strike="noStrike">
                <a:solidFill>
                  <a:srgbClr val="17375e"/>
                </a:solidFill>
                <a:latin typeface="Verdana"/>
                <a:ea typeface="Verdana"/>
              </a:rPr>
              <a:t>Esse tamanho das partículas é usado como critério na definição dos colóides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" descr="leite"/>
          <p:cNvPicPr/>
          <p:nvPr/>
        </p:nvPicPr>
        <p:blipFill>
          <a:blip r:embed="rId1"/>
          <a:stretch/>
        </p:blipFill>
        <p:spPr>
          <a:xfrm>
            <a:off x="5364000" y="1268280"/>
            <a:ext cx="35989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Verdana"/>
                <a:ea typeface="Verdana"/>
              </a:rPr>
              <a:t>Nos colóides as partículas dispersas estão em movimento constante e errático devido às moléculas do fluido estarem constantemente colidindo umas contra as outras.</a:t>
            </a:r>
            <a:br>
              <a:rPr sz="3200"/>
            </a:br>
            <a:br>
              <a:rPr sz="3200"/>
            </a:br>
            <a:r>
              <a:rPr b="1" lang="pt-BR" sz="3200" spc="-1" strike="noStrike">
                <a:solidFill>
                  <a:srgbClr val="ff0000"/>
                </a:solidFill>
                <a:latin typeface="Verdana"/>
                <a:ea typeface="Verdana"/>
              </a:rPr>
              <a:t> É por esta razão que as partículas dispersas não se depositam no fundo do recipiente sob a ação da gravida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Verdana"/>
                <a:ea typeface="Verdana"/>
              </a:rPr>
              <a:t>Os colóides dispersam fortemente a luz, pois as partículas dispersas têm tamanhos semelhantes ao comprimento de onda da luz visível. Este fenômeno é chamado </a:t>
            </a:r>
            <a:r>
              <a:rPr b="1" lang="pt-BR" sz="2800" spc="-1" strike="noStrike">
                <a:solidFill>
                  <a:srgbClr val="17375e"/>
                </a:solidFill>
                <a:latin typeface="Verdana"/>
                <a:ea typeface="Verdana"/>
              </a:rPr>
              <a:t>efeito de Tyndall</a:t>
            </a:r>
            <a:r>
              <a:rPr b="1" lang="pt-BR" sz="2800" spc="-1" strike="noStrike">
                <a:solidFill>
                  <a:srgbClr val="ff0000"/>
                </a:solidFill>
                <a:latin typeface="Verdana"/>
                <a:ea typeface="Verdana"/>
              </a:rPr>
              <a:t> e permite distinguir as soluções verdadeiras dos colóides, pois as soluções verdadeiras são transparentes, ou seja não dispersam a lu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1" descr="Efeito de Tyndall num líquido."/>
          <p:cNvPicPr/>
          <p:nvPr/>
        </p:nvPicPr>
        <p:blipFill>
          <a:blip r:embed="rId1"/>
          <a:stretch/>
        </p:blipFill>
        <p:spPr>
          <a:xfrm>
            <a:off x="179280" y="3645000"/>
            <a:ext cx="4565880" cy="2879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Efeito de Tyndall num gás."/>
          <p:cNvPicPr/>
          <p:nvPr/>
        </p:nvPicPr>
        <p:blipFill>
          <a:blip r:embed="rId2"/>
          <a:stretch/>
        </p:blipFill>
        <p:spPr>
          <a:xfrm>
            <a:off x="5043600" y="3645000"/>
            <a:ext cx="3925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olo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http://t3.gstatic.com/images?q=tbn:ANd9GcQC0TpUlsdD0LnbYR98JrxQKrM27M0zQHMYFIN606gj4jMM21iqcQ"/>
          <p:cNvPicPr/>
          <p:nvPr/>
        </p:nvPicPr>
        <p:blipFill>
          <a:blip r:embed="rId1"/>
          <a:stretch/>
        </p:blipFill>
        <p:spPr>
          <a:xfrm>
            <a:off x="6012000" y="1606680"/>
            <a:ext cx="2808000" cy="211284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77760" y="-708120"/>
            <a:ext cx="152388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77760" y="-884160"/>
            <a:ext cx="2476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http://t1.gstatic.com/images?q=tbn:ANd9GcS3WM5xsw4tuH0YlDESCN70gbg5d52f1e4wKBddd2uqphJXXWmu"/>
          <p:cNvPicPr/>
          <p:nvPr/>
        </p:nvPicPr>
        <p:blipFill>
          <a:blip r:embed="rId2"/>
          <a:stretch/>
        </p:blipFill>
        <p:spPr>
          <a:xfrm>
            <a:off x="250920" y="1606680"/>
            <a:ext cx="3686040" cy="187164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3"/>
          <p:cNvSpPr/>
          <p:nvPr/>
        </p:nvSpPr>
        <p:spPr>
          <a:xfrm>
            <a:off x="77760" y="-731880"/>
            <a:ext cx="1523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5" descr="http://t0.gstatic.com/images?q=tbn:ANd9GcSDrzNUjZgH7AUI8wLrYkBDWVACPARIPTciLq_ZWSWXPOyE0Ac5"/>
          <p:cNvPicPr/>
          <p:nvPr/>
        </p:nvPicPr>
        <p:blipFill>
          <a:blip r:embed="rId3"/>
          <a:stretch/>
        </p:blipFill>
        <p:spPr>
          <a:xfrm>
            <a:off x="398520" y="3573360"/>
            <a:ext cx="1695240" cy="269568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7"/>
          <p:cNvSpPr/>
          <p:nvPr/>
        </p:nvSpPr>
        <p:spPr>
          <a:xfrm>
            <a:off x="77760" y="-677880"/>
            <a:ext cx="19051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9" descr="http://t3.gstatic.com/images?q=tbn:ANd9GcRs1_UmL6_q-0Cu3Us7QKv_9ty_f-qhiKpvUjMFhV85EbjUD_ynVQ"/>
          <p:cNvPicPr/>
          <p:nvPr/>
        </p:nvPicPr>
        <p:blipFill>
          <a:blip r:embed="rId4"/>
          <a:stretch/>
        </p:blipFill>
        <p:spPr>
          <a:xfrm>
            <a:off x="2627280" y="3922560"/>
            <a:ext cx="3175200" cy="237672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21"/>
          <p:cNvSpPr/>
          <p:nvPr/>
        </p:nvSpPr>
        <p:spPr>
          <a:xfrm>
            <a:off x="77760" y="-685800"/>
            <a:ext cx="142884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3" descr="http://t3.gstatic.com/images?q=tbn:ANd9GcRyvEwWne3ATg7nZNhG0kk6yEKH-nYwGxcRtkNQuqgW8I-bieDZ_A"/>
          <p:cNvPicPr/>
          <p:nvPr/>
        </p:nvPicPr>
        <p:blipFill>
          <a:blip r:embed="rId5"/>
          <a:stretch/>
        </p:blipFill>
        <p:spPr>
          <a:xfrm>
            <a:off x="6270480" y="3776760"/>
            <a:ext cx="254952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tômicos ( átomos estão dispers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oleculares(moléculas dispersa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Ionicos (Ions dispers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7:53:25Z</dcterms:created>
  <dc:creator>Eneas</dc:creator>
  <dc:description/>
  <dc:language>en-US</dc:language>
  <cp:lastModifiedBy>Tarantella</cp:lastModifiedBy>
  <dcterms:modified xsi:type="dcterms:W3CDTF">2011-03-18T10:55:42Z</dcterms:modified>
  <cp:revision>22</cp:revision>
  <dc:subject/>
  <dc:title>Dispersões</dc:title>
</cp:coreProperties>
</file>